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言語的教室活動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-2 Video Clip 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E56-D4F3-4593-AC18-AE8CCFFA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言語的教室活動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2-2 Video Clip 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CBF-8639-4F6D-9731-754E6621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62D-CDE5-45D7-BBE2-0F5CF45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B87-0C76-4C0B-9908-661125C3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2D8-2854-4E7B-8386-7B1C466D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2F7-A019-40E6-84EE-EE4558C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B6D-4BA7-4EF6-AC70-2B66BEC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06F-8E58-4DD5-9516-AA3316A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55-E22E-452C-9CCA-99B019A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492-8C93-4B82-A741-61E2C42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665-FC9F-4885-B110-0E99BDF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A95-558A-4045-A171-D573984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4CF-0A6D-416F-B503-FD2EA82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090-4CC3-44FD-BFE3-A1CC9B1F0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the Japanese coun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ay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unting.MPG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1:43:59Z</dcterms:created>
  <dc:creator>h.tanaka</dc:creator>
  <dc:description/>
  <dc:language>en-US</dc:language>
  <cp:lastModifiedBy>Hiroko Tanaka</cp:lastModifiedBy>
  <cp:lastPrinted>2013-09-18T14:29:19Z</cp:lastPrinted>
  <dcterms:modified xsi:type="dcterms:W3CDTF">2013-09-24T14:08:28Z</dcterms:modified>
  <cp:revision>17</cp:revision>
  <dc:subject/>
  <dc:title>Bowing</dc:title>
</cp:coreProperties>
</file>